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D88D-BD7C-4AB1-BB64-5DF5E1B23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4713-C92E-46B3-B1F0-123D8B15BD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F1AD-DAB2-49C6-9348-9AD709C09C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8E0B-537B-4017-A790-FDAC5445AB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77A5-7DC3-414E-9AEF-CB2C5C72B1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86A7-ECFD-4035-B29E-5CCA78BC43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408-6B72-46B2-B477-FF2C0E29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8E7-09E1-492C-9AD5-E296F951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37D-8E2E-4255-959B-9BDBDB5A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9F9-E41B-471E-8277-29C5EDA3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3986-C794-40FE-9365-9D004B68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4F67-C55E-432A-9297-B0CAB8A3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7DF0-5ACE-40F8-A594-490C3639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1B0D-8F13-4BFA-9AD0-21B7D8C2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EA02-7ED7-4894-A3FA-7B356C23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0B6D-D000-4E29-ADEA-43ACDB01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CB79-BCCB-4153-A1B9-7CC9FACA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C80-5351-4B04-B89E-CC0CC912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E74F-5E4B-4DB7-93E5-2C7C371A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9B3C-B186-4F5B-B3B6-FF776575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4198-EADF-4921-997A-BB738271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9F32-A7A8-4199-BD0D-0AB44AE0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8E6D-5215-4197-B1D6-66920CFE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DFE-A24F-4B0C-B5B6-EF475A61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C5A-82B3-4839-9264-DEEEF334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637-53FA-4378-8D80-7B51276E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B36-899E-4898-8017-A8A4B09D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457-299A-453F-B8C7-E9D50929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739-96B6-4E11-9591-078ABAA9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6A7-D241-4B21-8219-AD224125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284E-660E-4547-AF92-AB1C5B479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834C-B992-48C1-AE9B-2159B5D865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H 2.1 VOCABULAR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PEN NOTE QUIZ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OUT YOUR VOCAB &amp; A PIECE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–MULTIPLE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OD LU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5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20132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A lawmaking bod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Executive Bran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B.  Legis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.  Supreme Court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.  All of the abo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0">
    <p:fad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A ruling in a previous court case that was similar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trend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rece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. decision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. patte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0"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Rights that no government can take awa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onducive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natu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naturaliz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ordai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0"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An agreement, or contract, among a group of peopl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compact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ru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deci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0">
    <p:fad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An agreement to give up freedom in exchange for protection by the governm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Empasse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Social compa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Social contra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Civ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23T13:02:26Z</dcterms:modified>
  <cp:revision>122</cp:revision>
  <dc:subject/>
  <dc:title>D/O: TO EXPLAIN AND IDENTIFY PROBLEMS OF ECONOMICS</dc:title>
</cp:coreProperties>
</file>